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A4C-BA38-4ECA-9655-F406AF20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3BE-C949-4E69-9A36-270B3EB4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688-B431-4CD5-92C1-23433780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3B7-71CA-430C-A101-2DA292B3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47A-02DE-49AE-9043-6BDFC0A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080-2F56-4E9C-9CD0-E9592978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F7A-66D5-4A97-9C7D-B0B96107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AC4-2BD0-4E34-9801-D723875B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D50-C2B9-4521-ADDF-1F4D3EB8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07E-FE96-4EC3-9B96-BF3213F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2D9-44BA-4A6E-8B3A-B74EB0A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239-A6F3-4AB6-98C3-88451E2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2A6-FF67-496C-95F9-15C73CBC1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9 Tá láska vzácna, úžas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 mu slávu vzdáv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ním sa s úc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jme;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z našich úst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a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čný život, spase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láska vzácna, úžas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ad ňu väčšiu nepoz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sám sa st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člove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spásu več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znášal hlad i biedu z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krst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klad 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pokušením zvíť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bez hriechu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vďaku vzd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a nás mrieť bol hotov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ríž, na ktor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re hriech patr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Božej mo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mŕtvychvst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voju cirkev pamätal;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Ducha zosl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erným sľúbil na po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2:00Z</dcterms:modified>
  <cp:revision>10</cp:revision>
  <dc:subject/>
  <dc:title>Je veľký náš Pán, on slávy je Kráľ Nech do všetkých strán  spev vrúcnych znie chvál.</dc:title>
</cp:coreProperties>
</file>